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C46-82FD-4BD8-BD0F-D90EE1F1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4C3-3C7E-46CD-91C4-8CFA9DB5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323-6B49-46EB-A91A-3466BDEC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D1D-E837-4F5F-909D-DB4BDB4D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11DB-8B24-401C-B98C-179D9767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204-F0DA-4D12-A442-FC005326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683-9009-4858-902E-231B14D6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D21-26F1-4115-A966-24EF007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C72D-6CE1-4612-AEA3-5E6C802E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9B9-6F5E-4BC8-B9A5-F04328F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190-6D57-4391-A40B-59B3439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8CE-CA96-4630-943F-AE5B931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D1AC-6DF0-405F-86A1-DCDE2CDD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3EE5-1643-4C4B-A5D8-A549E3AB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ABB-E91A-4810-9653-3ECB71B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1E55-2EC0-4FC0-B669-7E322A48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549A-35C2-473A-9127-07EAB01D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2E4-155C-4067-B444-96D1EC6B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702-CA7A-4D25-9A88-8E7865C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740-2E8F-407F-B325-1C506E0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EF0-8D1D-405D-B33E-D3C9334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C49-E8CA-44BC-B9C1-7C464D1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D19-9D7D-4F80-8618-5E609DE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E68-1D05-4EAC-B209-4B4EFA0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F78-E835-4027-89EB-43D2F928B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422-B001-4A0B-9334-4996F2C01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aral.cse.msu.edu/CSE101SS00/CSE101Student/CommonToAllTracks/BTInformation/bt10.html" TargetMode="External"/><Relationship Id="rId2" Type="http://schemas.openxmlformats.org/officeDocument/2006/relationships/hyperlink" Target="http://aral.cse.msu.edu/CSE101SS00/CSE101Student/CommonToAllTracks/BTInformation/bt15.html" TargetMode="External"/><Relationship Id="rId3" Type="http://schemas.openxmlformats.org/officeDocument/2006/relationships/hyperlink" Target="http://aral.cse.msu.edu/CSE101SS00/CSE101Student/CommonToAllTracks/BTInformation/bt20.html" TargetMode="External"/><Relationship Id="rId4" Type="http://schemas.openxmlformats.org/officeDocument/2006/relationships/hyperlink" Target="http://aral.cse.msu.edu/CSE101SS00/CSE101Student/CommonToAllTracks/BTInformation/bt25.html" TargetMode="External"/><Relationship Id="rId5" Type="http://schemas.openxmlformats.org/officeDocument/2006/relationships/hyperlink" Target="http://aral.cse.msu.edu/CSE101SS00/CSE101Student/CommonToAllTracks/BTInformation/bt30a.html" TargetMode="External"/><Relationship Id="rId6" Type="http://schemas.openxmlformats.org/officeDocument/2006/relationships/hyperlink" Target="http://aral.cse.msu.edu/CSE101SS00/CSE101Student/CommonToAllTracks/BTInformation/bt30c.html" TargetMode="External"/><Relationship Id="rId7" Type="http://schemas.openxmlformats.org/officeDocument/2006/relationships/hyperlink" Target="http://aral.cse.msu.edu/CSE101SS00/CSE101Student/CommonToAllTracks/BTInformation/bt30d.html" TargetMode="External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46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7600" y="140292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eaching for Fluency with Information Technology:</a:t>
            </a:r>
            <a:br>
              <a:rPr sz="4400"/>
            </a:b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Role of  Feedback in Instructional Design and Student Assess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orations in Instructional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 Urban-Lu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 Weinsh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ober 27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cse.msu.edu/~cse1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Fairness Factor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.3% of variance on this factor accounted for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 grade in cou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of BT attem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mulative 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Mathema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spec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oming computer communication exper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articipation Factor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.8% of variance on this factor accounted for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ten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A SI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Social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 of BT attem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eate ch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oming knowledge of computer te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Mathema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d - rename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course g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urse Resources Factor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 % of variance on this factor accounted for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ten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nsion task: backgrou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pages in Web fol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of BT attem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urse g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Lead TA SIR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8 % of variance on Lead TA SIRS accounted for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irness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paration and participation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Exper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se resources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ten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fol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nsion task: excel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mber of BT attem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urse g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ssistant TA SIR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4 % of variance on ATA SIRS accounted for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irness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paration and participation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udent E-mail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S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se resources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ten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Exper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urse g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echnology in Instructional Design and Student Assess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-rich instructional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ailed information about each stud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QI for all aspects of instruction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ance-based assess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bor inten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-rater reli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lyzing student conceptual frame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ention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rly iden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rgeted for schematic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mplicatio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al design process can be used in any discip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reditation Board for Engineering and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Q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es instruction at needed s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-line assess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provide active, constructivist learning on li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E 101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cse.msu.edu/~cse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ext: Teaching non-CS maj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a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s of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structional design detail slid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11320" y="1584360"/>
            <a:ext cx="5684760" cy="481644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Design Inp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5840" indent="-344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S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5840" indent="-344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5840" indent="-344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lient department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esign team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9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esign Inpu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05120" y="1600200"/>
            <a:ext cx="5257800" cy="435924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Instructional Go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Re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N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9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structional Go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eductive Instru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962520" y="3581280"/>
            <a:ext cx="1230120" cy="1295640"/>
            <a:chOff x="3962520" y="3581280"/>
            <a:chExt cx="1230120" cy="1295640"/>
          </a:xfrm>
        </p:grpSpPr>
        <p:sp>
          <p:nvSpPr>
            <p:cNvPr id="209" name=""/>
            <p:cNvSpPr/>
            <p:nvPr/>
          </p:nvSpPr>
          <p:spPr>
            <a:xfrm>
              <a:off x="3962520" y="3581280"/>
              <a:ext cx="1230120" cy="12956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51160" y="4091040"/>
              <a:ext cx="852480" cy="27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a004e"/>
                  </a:solidFill>
                  <a:latin typeface="Arial"/>
                </a:rPr>
                <a:t>Conce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362320" y="2362320"/>
            <a:ext cx="1675800" cy="1523880"/>
            <a:chOff x="2362320" y="2362320"/>
            <a:chExt cx="1675800" cy="1523880"/>
          </a:xfrm>
        </p:grpSpPr>
        <p:grpSp>
          <p:nvGrpSpPr>
            <p:cNvPr id="212" name=""/>
            <p:cNvGrpSpPr/>
            <p:nvPr/>
          </p:nvGrpSpPr>
          <p:grpSpPr>
            <a:xfrm>
              <a:off x="2362320" y="2362320"/>
              <a:ext cx="766800" cy="807840"/>
              <a:chOff x="2362320" y="2362320"/>
              <a:chExt cx="766800" cy="8078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2362320"/>
                <a:ext cx="766800" cy="80784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24240" y="2649600"/>
                <a:ext cx="6476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kill 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 flipV="1">
              <a:off x="3047760" y="3048120"/>
              <a:ext cx="990360" cy="83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05520" y="2362320"/>
            <a:ext cx="2062080" cy="1523880"/>
            <a:chOff x="5105520" y="2362320"/>
            <a:chExt cx="2062080" cy="1523880"/>
          </a:xfrm>
        </p:grpSpPr>
        <p:grpSp>
          <p:nvGrpSpPr>
            <p:cNvPr id="217" name=""/>
            <p:cNvGrpSpPr/>
            <p:nvPr/>
          </p:nvGrpSpPr>
          <p:grpSpPr>
            <a:xfrm>
              <a:off x="6400800" y="2362320"/>
              <a:ext cx="766800" cy="807840"/>
              <a:chOff x="6400800" y="2362320"/>
              <a:chExt cx="766800" cy="807840"/>
            </a:xfrm>
          </p:grpSpPr>
          <p:sp>
            <p:nvSpPr>
              <p:cNvPr id="218" name=""/>
              <p:cNvSpPr/>
              <p:nvPr/>
            </p:nvSpPr>
            <p:spPr>
              <a:xfrm>
                <a:off x="6400800" y="2362320"/>
                <a:ext cx="766800" cy="807840"/>
              </a:xfrm>
              <a:prstGeom prst="ellipse">
                <a:avLst/>
              </a:prstGeom>
              <a:solidFill>
                <a:srgbClr val="3333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62720" y="2649600"/>
                <a:ext cx="647640" cy="2750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kill 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5105520" y="2971800"/>
              <a:ext cx="134136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94000" y="4876920"/>
            <a:ext cx="766800" cy="1798200"/>
            <a:chOff x="4194000" y="4876920"/>
            <a:chExt cx="766800" cy="1798200"/>
          </a:xfrm>
        </p:grpSpPr>
        <p:grpSp>
          <p:nvGrpSpPr>
            <p:cNvPr id="222" name=""/>
            <p:cNvGrpSpPr/>
            <p:nvPr/>
          </p:nvGrpSpPr>
          <p:grpSpPr>
            <a:xfrm>
              <a:off x="4194000" y="5867280"/>
              <a:ext cx="766800" cy="807840"/>
              <a:chOff x="4194000" y="5867280"/>
              <a:chExt cx="766800" cy="807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194000" y="5867280"/>
                <a:ext cx="766800" cy="807840"/>
              </a:xfrm>
              <a:prstGeom prst="ellipse">
                <a:avLst/>
              </a:prstGeom>
              <a:solidFill>
                <a:srgbClr val="ff003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55920" y="6154560"/>
                <a:ext cx="647640" cy="27504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kill 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572000" y="4876920"/>
              <a:ext cx="0" cy="9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476440" y="2332080"/>
            <a:ext cx="2398680" cy="2387520"/>
            <a:chOff x="2476440" y="2332080"/>
            <a:chExt cx="2398680" cy="2387520"/>
          </a:xfrm>
        </p:grpSpPr>
        <p:sp>
          <p:nvSpPr>
            <p:cNvPr id="227" name=""/>
            <p:cNvSpPr/>
            <p:nvPr/>
          </p:nvSpPr>
          <p:spPr>
            <a:xfrm>
              <a:off x="2476440" y="2332080"/>
              <a:ext cx="2398680" cy="2387520"/>
            </a:xfrm>
            <a:prstGeom prst="ellipse">
              <a:avLst/>
            </a:prstGeom>
            <a:solidFill>
              <a:srgbClr val="00ff66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5440" y="2625840"/>
              <a:ext cx="899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ma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45120" y="2381400"/>
            <a:ext cx="2398680" cy="2387520"/>
            <a:chOff x="4245120" y="2381400"/>
            <a:chExt cx="2398680" cy="2387520"/>
          </a:xfrm>
        </p:grpSpPr>
        <p:sp>
          <p:nvSpPr>
            <p:cNvPr id="230" name=""/>
            <p:cNvSpPr/>
            <p:nvPr/>
          </p:nvSpPr>
          <p:spPr>
            <a:xfrm>
              <a:off x="4245120" y="2381400"/>
              <a:ext cx="2398680" cy="238752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43960" y="2673360"/>
              <a:ext cx="899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ma 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309840" y="3833640"/>
            <a:ext cx="2398680" cy="2387880"/>
            <a:chOff x="3309840" y="3833640"/>
            <a:chExt cx="2398680" cy="2387880"/>
          </a:xfrm>
        </p:grpSpPr>
        <p:sp>
          <p:nvSpPr>
            <p:cNvPr id="233" name=""/>
            <p:cNvSpPr/>
            <p:nvPr/>
          </p:nvSpPr>
          <p:spPr>
            <a:xfrm>
              <a:off x="3309840" y="3833640"/>
              <a:ext cx="2398680" cy="2387880"/>
            </a:xfrm>
            <a:prstGeom prst="ellipse">
              <a:avLst/>
            </a:prstGeom>
            <a:solidFill>
              <a:srgbClr val="ff505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84920" y="5572080"/>
              <a:ext cx="899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ma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ductive Instru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292560" y="3122640"/>
            <a:ext cx="766800" cy="807840"/>
            <a:chOff x="3292560" y="3122640"/>
            <a:chExt cx="766800" cy="807840"/>
          </a:xfrm>
        </p:grpSpPr>
        <p:sp>
          <p:nvSpPr>
            <p:cNvPr id="237" name=""/>
            <p:cNvSpPr/>
            <p:nvPr/>
          </p:nvSpPr>
          <p:spPr>
            <a:xfrm>
              <a:off x="3292560" y="3122640"/>
              <a:ext cx="766800" cy="807840"/>
            </a:xfrm>
            <a:prstGeom prst="ellipse">
              <a:avLst/>
            </a:prstGeom>
            <a:solidFill>
              <a:srgbClr val="006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4480" y="3409920"/>
              <a:ext cx="647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kill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125960" y="4624560"/>
            <a:ext cx="766800" cy="807840"/>
            <a:chOff x="4125960" y="4624560"/>
            <a:chExt cx="766800" cy="807840"/>
          </a:xfrm>
        </p:grpSpPr>
        <p:sp>
          <p:nvSpPr>
            <p:cNvPr id="240" name=""/>
            <p:cNvSpPr/>
            <p:nvPr/>
          </p:nvSpPr>
          <p:spPr>
            <a:xfrm>
              <a:off x="4125960" y="4624560"/>
              <a:ext cx="766800" cy="807840"/>
            </a:xfrm>
            <a:prstGeom prst="ellipse">
              <a:avLst/>
            </a:prstGeom>
            <a:solidFill>
              <a:srgbClr val="ff00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87880" y="4911840"/>
              <a:ext cx="647640" cy="2750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kill 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21720" y="3825720"/>
            <a:ext cx="643680" cy="546120"/>
            <a:chOff x="4221720" y="3825720"/>
            <a:chExt cx="643680" cy="546120"/>
          </a:xfrm>
        </p:grpSpPr>
        <p:sp>
          <p:nvSpPr>
            <p:cNvPr id="243" name=""/>
            <p:cNvSpPr/>
            <p:nvPr/>
          </p:nvSpPr>
          <p:spPr>
            <a:xfrm>
              <a:off x="4273560" y="3832200"/>
              <a:ext cx="544680" cy="539640"/>
            </a:xfrm>
            <a:custGeom>
              <a:avLst/>
              <a:gdLst/>
              <a:ahLst/>
              <a:rect l="l" t="t" r="r" b="b"/>
              <a:pathLst>
                <a:path w="343" h="324">
                  <a:moveTo>
                    <a:pt x="3" y="32"/>
                  </a:moveTo>
                  <a:lnTo>
                    <a:pt x="0" y="23"/>
                  </a:lnTo>
                  <a:lnTo>
                    <a:pt x="3" y="32"/>
                  </a:lnTo>
                  <a:lnTo>
                    <a:pt x="9" y="42"/>
                  </a:lnTo>
                  <a:lnTo>
                    <a:pt x="9" y="47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4" y="65"/>
                  </a:lnTo>
                  <a:lnTo>
                    <a:pt x="16" y="70"/>
                  </a:lnTo>
                  <a:lnTo>
                    <a:pt x="16" y="76"/>
                  </a:lnTo>
                  <a:lnTo>
                    <a:pt x="18" y="83"/>
                  </a:lnTo>
                  <a:lnTo>
                    <a:pt x="20" y="89"/>
                  </a:lnTo>
                  <a:lnTo>
                    <a:pt x="24" y="94"/>
                  </a:lnTo>
                  <a:lnTo>
                    <a:pt x="26" y="100"/>
                  </a:lnTo>
                  <a:lnTo>
                    <a:pt x="28" y="106"/>
                  </a:lnTo>
                  <a:lnTo>
                    <a:pt x="30" y="112"/>
                  </a:lnTo>
                  <a:lnTo>
                    <a:pt x="34" y="117"/>
                  </a:lnTo>
                  <a:lnTo>
                    <a:pt x="35" y="123"/>
                  </a:lnTo>
                  <a:lnTo>
                    <a:pt x="37" y="129"/>
                  </a:lnTo>
                  <a:lnTo>
                    <a:pt x="39" y="134"/>
                  </a:lnTo>
                  <a:lnTo>
                    <a:pt x="45" y="140"/>
                  </a:lnTo>
                  <a:lnTo>
                    <a:pt x="47" y="146"/>
                  </a:lnTo>
                  <a:lnTo>
                    <a:pt x="51" y="152"/>
                  </a:lnTo>
                  <a:lnTo>
                    <a:pt x="53" y="157"/>
                  </a:lnTo>
                  <a:lnTo>
                    <a:pt x="56" y="164"/>
                  </a:lnTo>
                  <a:lnTo>
                    <a:pt x="58" y="170"/>
                  </a:lnTo>
                  <a:lnTo>
                    <a:pt x="60" y="176"/>
                  </a:lnTo>
                  <a:lnTo>
                    <a:pt x="62" y="181"/>
                  </a:lnTo>
                  <a:lnTo>
                    <a:pt x="68" y="185"/>
                  </a:lnTo>
                  <a:lnTo>
                    <a:pt x="68" y="191"/>
                  </a:lnTo>
                  <a:lnTo>
                    <a:pt x="72" y="197"/>
                  </a:lnTo>
                  <a:lnTo>
                    <a:pt x="74" y="202"/>
                  </a:lnTo>
                  <a:lnTo>
                    <a:pt x="79" y="208"/>
                  </a:lnTo>
                  <a:lnTo>
                    <a:pt x="81" y="216"/>
                  </a:lnTo>
                  <a:lnTo>
                    <a:pt x="85" y="222"/>
                  </a:lnTo>
                  <a:lnTo>
                    <a:pt x="91" y="227"/>
                  </a:lnTo>
                  <a:lnTo>
                    <a:pt x="93" y="233"/>
                  </a:lnTo>
                  <a:lnTo>
                    <a:pt x="95" y="239"/>
                  </a:lnTo>
                  <a:lnTo>
                    <a:pt x="102" y="245"/>
                  </a:lnTo>
                  <a:lnTo>
                    <a:pt x="106" y="251"/>
                  </a:lnTo>
                  <a:lnTo>
                    <a:pt x="110" y="257"/>
                  </a:lnTo>
                  <a:lnTo>
                    <a:pt x="114" y="263"/>
                  </a:lnTo>
                  <a:lnTo>
                    <a:pt x="120" y="268"/>
                  </a:lnTo>
                  <a:lnTo>
                    <a:pt x="122" y="274"/>
                  </a:lnTo>
                  <a:lnTo>
                    <a:pt x="127" y="276"/>
                  </a:lnTo>
                  <a:lnTo>
                    <a:pt x="131" y="286"/>
                  </a:lnTo>
                  <a:lnTo>
                    <a:pt x="137" y="289"/>
                  </a:lnTo>
                  <a:lnTo>
                    <a:pt x="139" y="295"/>
                  </a:lnTo>
                  <a:lnTo>
                    <a:pt x="144" y="301"/>
                  </a:lnTo>
                  <a:lnTo>
                    <a:pt x="148" y="307"/>
                  </a:lnTo>
                  <a:lnTo>
                    <a:pt x="150" y="312"/>
                  </a:lnTo>
                  <a:lnTo>
                    <a:pt x="154" y="318"/>
                  </a:lnTo>
                  <a:lnTo>
                    <a:pt x="160" y="323"/>
                  </a:lnTo>
                  <a:lnTo>
                    <a:pt x="166" y="323"/>
                  </a:lnTo>
                  <a:lnTo>
                    <a:pt x="171" y="318"/>
                  </a:lnTo>
                  <a:lnTo>
                    <a:pt x="177" y="312"/>
                  </a:lnTo>
                  <a:lnTo>
                    <a:pt x="183" y="309"/>
                  </a:lnTo>
                  <a:lnTo>
                    <a:pt x="183" y="303"/>
                  </a:lnTo>
                  <a:lnTo>
                    <a:pt x="187" y="297"/>
                  </a:lnTo>
                  <a:lnTo>
                    <a:pt x="190" y="291"/>
                  </a:lnTo>
                  <a:lnTo>
                    <a:pt x="196" y="286"/>
                  </a:lnTo>
                  <a:lnTo>
                    <a:pt x="198" y="280"/>
                  </a:lnTo>
                  <a:lnTo>
                    <a:pt x="206" y="274"/>
                  </a:lnTo>
                  <a:lnTo>
                    <a:pt x="211" y="268"/>
                  </a:lnTo>
                  <a:lnTo>
                    <a:pt x="217" y="265"/>
                  </a:lnTo>
                  <a:lnTo>
                    <a:pt x="223" y="261"/>
                  </a:lnTo>
                  <a:lnTo>
                    <a:pt x="229" y="255"/>
                  </a:lnTo>
                  <a:lnTo>
                    <a:pt x="232" y="249"/>
                  </a:lnTo>
                  <a:lnTo>
                    <a:pt x="240" y="244"/>
                  </a:lnTo>
                  <a:lnTo>
                    <a:pt x="244" y="237"/>
                  </a:lnTo>
                  <a:lnTo>
                    <a:pt x="250" y="231"/>
                  </a:lnTo>
                  <a:lnTo>
                    <a:pt x="254" y="227"/>
                  </a:lnTo>
                  <a:lnTo>
                    <a:pt x="255" y="222"/>
                  </a:lnTo>
                  <a:lnTo>
                    <a:pt x="259" y="216"/>
                  </a:lnTo>
                  <a:lnTo>
                    <a:pt x="263" y="210"/>
                  </a:lnTo>
                  <a:lnTo>
                    <a:pt x="267" y="204"/>
                  </a:lnTo>
                  <a:lnTo>
                    <a:pt x="267" y="199"/>
                  </a:lnTo>
                  <a:lnTo>
                    <a:pt x="273" y="193"/>
                  </a:lnTo>
                  <a:lnTo>
                    <a:pt x="276" y="185"/>
                  </a:lnTo>
                  <a:lnTo>
                    <a:pt x="278" y="179"/>
                  </a:lnTo>
                  <a:lnTo>
                    <a:pt x="284" y="172"/>
                  </a:lnTo>
                  <a:lnTo>
                    <a:pt x="286" y="164"/>
                  </a:lnTo>
                  <a:lnTo>
                    <a:pt x="288" y="157"/>
                  </a:lnTo>
                  <a:lnTo>
                    <a:pt x="290" y="152"/>
                  </a:lnTo>
                  <a:lnTo>
                    <a:pt x="296" y="146"/>
                  </a:lnTo>
                  <a:lnTo>
                    <a:pt x="298" y="140"/>
                  </a:lnTo>
                  <a:lnTo>
                    <a:pt x="301" y="133"/>
                  </a:lnTo>
                  <a:lnTo>
                    <a:pt x="307" y="127"/>
                  </a:lnTo>
                  <a:lnTo>
                    <a:pt x="309" y="121"/>
                  </a:lnTo>
                  <a:lnTo>
                    <a:pt x="313" y="115"/>
                  </a:lnTo>
                  <a:lnTo>
                    <a:pt x="317" y="110"/>
                  </a:lnTo>
                  <a:lnTo>
                    <a:pt x="319" y="104"/>
                  </a:lnTo>
                  <a:lnTo>
                    <a:pt x="320" y="98"/>
                  </a:lnTo>
                  <a:lnTo>
                    <a:pt x="322" y="92"/>
                  </a:lnTo>
                  <a:lnTo>
                    <a:pt x="324" y="87"/>
                  </a:lnTo>
                  <a:lnTo>
                    <a:pt x="324" y="81"/>
                  </a:lnTo>
                  <a:lnTo>
                    <a:pt x="328" y="70"/>
                  </a:lnTo>
                  <a:lnTo>
                    <a:pt x="330" y="65"/>
                  </a:lnTo>
                  <a:lnTo>
                    <a:pt x="332" y="59"/>
                  </a:lnTo>
                  <a:lnTo>
                    <a:pt x="334" y="53"/>
                  </a:lnTo>
                  <a:lnTo>
                    <a:pt x="334" y="47"/>
                  </a:lnTo>
                  <a:lnTo>
                    <a:pt x="336" y="42"/>
                  </a:lnTo>
                  <a:lnTo>
                    <a:pt x="336" y="36"/>
                  </a:lnTo>
                  <a:lnTo>
                    <a:pt x="340" y="30"/>
                  </a:lnTo>
                  <a:lnTo>
                    <a:pt x="342" y="24"/>
                  </a:lnTo>
                  <a:lnTo>
                    <a:pt x="334" y="21"/>
                  </a:lnTo>
                  <a:lnTo>
                    <a:pt x="330" y="21"/>
                  </a:lnTo>
                  <a:lnTo>
                    <a:pt x="322" y="19"/>
                  </a:lnTo>
                  <a:lnTo>
                    <a:pt x="319" y="19"/>
                  </a:lnTo>
                  <a:lnTo>
                    <a:pt x="311" y="19"/>
                  </a:lnTo>
                  <a:lnTo>
                    <a:pt x="307" y="19"/>
                  </a:lnTo>
                  <a:lnTo>
                    <a:pt x="299" y="17"/>
                  </a:lnTo>
                  <a:lnTo>
                    <a:pt x="296" y="17"/>
                  </a:lnTo>
                  <a:lnTo>
                    <a:pt x="288" y="13"/>
                  </a:lnTo>
                  <a:lnTo>
                    <a:pt x="284" y="11"/>
                  </a:lnTo>
                  <a:lnTo>
                    <a:pt x="276" y="9"/>
                  </a:lnTo>
                  <a:lnTo>
                    <a:pt x="273" y="9"/>
                  </a:lnTo>
                  <a:lnTo>
                    <a:pt x="265" y="7"/>
                  </a:lnTo>
                  <a:lnTo>
                    <a:pt x="259" y="7"/>
                  </a:lnTo>
                  <a:lnTo>
                    <a:pt x="254" y="7"/>
                  </a:lnTo>
                  <a:lnTo>
                    <a:pt x="250" y="7"/>
                  </a:lnTo>
                  <a:lnTo>
                    <a:pt x="242" y="7"/>
                  </a:lnTo>
                  <a:lnTo>
                    <a:pt x="234" y="7"/>
                  </a:lnTo>
                  <a:lnTo>
                    <a:pt x="229" y="7"/>
                  </a:lnTo>
                  <a:lnTo>
                    <a:pt x="223" y="7"/>
                  </a:lnTo>
                  <a:lnTo>
                    <a:pt x="217" y="5"/>
                  </a:lnTo>
                  <a:lnTo>
                    <a:pt x="211" y="5"/>
                  </a:lnTo>
                  <a:lnTo>
                    <a:pt x="206" y="2"/>
                  </a:lnTo>
                  <a:lnTo>
                    <a:pt x="200" y="2"/>
                  </a:lnTo>
                  <a:lnTo>
                    <a:pt x="194" y="2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2" y="2"/>
                  </a:lnTo>
                  <a:lnTo>
                    <a:pt x="156" y="2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39" y="2"/>
                  </a:lnTo>
                  <a:lnTo>
                    <a:pt x="131" y="2"/>
                  </a:lnTo>
                  <a:lnTo>
                    <a:pt x="122" y="2"/>
                  </a:lnTo>
                  <a:lnTo>
                    <a:pt x="116" y="5"/>
                  </a:lnTo>
                  <a:lnTo>
                    <a:pt x="110" y="5"/>
                  </a:lnTo>
                  <a:lnTo>
                    <a:pt x="102" y="5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3" y="5"/>
                  </a:lnTo>
                  <a:lnTo>
                    <a:pt x="76" y="7"/>
                  </a:lnTo>
                  <a:lnTo>
                    <a:pt x="70" y="7"/>
                  </a:lnTo>
                  <a:lnTo>
                    <a:pt x="64" y="7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47" y="9"/>
                  </a:lnTo>
                  <a:lnTo>
                    <a:pt x="41" y="9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4" y="13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1"/>
                  </a:lnTo>
                  <a:lnTo>
                    <a:pt x="3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1720" y="3825720"/>
              <a:ext cx="643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60880" y="3171960"/>
            <a:ext cx="766800" cy="807840"/>
            <a:chOff x="5060880" y="3171960"/>
            <a:chExt cx="766800" cy="807840"/>
          </a:xfrm>
        </p:grpSpPr>
        <p:sp>
          <p:nvSpPr>
            <p:cNvPr id="246" name=""/>
            <p:cNvSpPr/>
            <p:nvPr/>
          </p:nvSpPr>
          <p:spPr>
            <a:xfrm>
              <a:off x="5060880" y="3171960"/>
              <a:ext cx="766800" cy="807840"/>
            </a:xfrm>
            <a:prstGeom prst="ellipse">
              <a:avLst/>
            </a:prstGeom>
            <a:solidFill>
              <a:srgbClr val="3333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22800" y="3459240"/>
              <a:ext cx="647640" cy="2750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kill 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1447920"/>
            <a:ext cx="6705720" cy="419076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Instructional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0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students / sem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Multiple “track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ommon first ha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iverge for foc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All lab-based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564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No le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Problem-based, collaborative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Performance-based assess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19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structional Desig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11320" y="1676520"/>
            <a:ext cx="5532480" cy="47242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Incoming Stud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Undergraduates in non-technical maj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G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ACT sc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lass 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Maj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Ethn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65160" indent="-3380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omputing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9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coming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Fluency with Information Technology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it mean to be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te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llege graduate in an information a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technology is ubiquito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Literacy” associated with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Fluent with Information Technology (FI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ittee on Information Technology Literacy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E 1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U introductory course for non-CS maj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2057400" y="1523880"/>
            <a:ext cx="5257800" cy="396252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Instr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room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45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 Teaching Assi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45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Teaching As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-based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45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Series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Instructional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45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Web, Text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9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57400" y="1371600"/>
            <a:ext cx="4952880" cy="42670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Performance-b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Modified mastery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Bridge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87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Determine grade through 3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87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87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Summ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Final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87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May increase 3.0 to 3.5 or 4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763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ssess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029360" y="5695920"/>
            <a:ext cx="533520" cy="10288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028880"/>
              <a:gd name="textAreaBottom" fmla="*/ 994320 h 1028880"/>
            </a:gdLst>
            <a:ahLst/>
            <a:rect l="textAreaLeft" t="textAreaTop" r="textAreaRight" b="textAreaBottom"/>
            <a:pathLst>
              <a:path w="21600" h="41642">
                <a:moveTo>
                  <a:pt x="0" y="0"/>
                </a:moveTo>
                <a:lnTo>
                  <a:pt x="21600" y="0"/>
                </a:lnTo>
                <a:lnTo>
                  <a:pt x="21600" y="41642"/>
                </a:lnTo>
                <a:lnTo>
                  <a:pt x="0" y="41642"/>
                </a:lnTo>
                <a:close/>
              </a:path>
              <a:path fill="lightenLess" w="21600" h="4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642">
                <a:moveTo>
                  <a:pt x="21600" y="0"/>
                </a:moveTo>
                <a:lnTo>
                  <a:pt x="21600" y="41642"/>
                </a:lnTo>
                <a:lnTo>
                  <a:pt x="20200" y="40242"/>
                </a:lnTo>
                <a:lnTo>
                  <a:pt x="20200" y="1400"/>
                </a:lnTo>
                <a:close/>
              </a:path>
              <a:path fill="darkenLess" w="21600" h="41642">
                <a:moveTo>
                  <a:pt x="21600" y="41642"/>
                </a:moveTo>
                <a:lnTo>
                  <a:pt x="0" y="41642"/>
                </a:lnTo>
                <a:lnTo>
                  <a:pt x="1400" y="40242"/>
                </a:lnTo>
                <a:lnTo>
                  <a:pt x="20200" y="40242"/>
                </a:lnTo>
                <a:close/>
              </a:path>
              <a:path fill="lighten" w="21600" h="41642">
                <a:moveTo>
                  <a:pt x="0" y="4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40242"/>
                </a:lnTo>
                <a:close/>
              </a:path>
              <a:path fill="darken" w="21600" h="41642">
                <a:moveTo>
                  <a:pt x="3794" y="13814"/>
                </a:moveTo>
                <a:lnTo>
                  <a:pt x="17806" y="20821"/>
                </a:lnTo>
                <a:lnTo>
                  <a:pt x="3794" y="27827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6421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ridge Task Competencies in CSE 101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1.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-mail; Web; Distributed network file systems;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1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bliographic databases; Creating Web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2.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dvanced Word-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2.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sheets (functions, charts); Hardware;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5"/>
              </a:rPr>
              <a:t>3.0	Track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ced Web site creation; Java Applets; Object embed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6"/>
              </a:rPr>
              <a:t>3.0 	Track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ced spreadsheets; Importing; Data analysis; Add-on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7"/>
              </a:rPr>
              <a:t>3.0 	Track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ced spreadsheets; Fiscal analysis; Add-on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ridge Task Detail Drilldown 1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3809880" y="932040"/>
            <a:ext cx="1238400" cy="1238040"/>
            <a:chOff x="3809880" y="932040"/>
            <a:chExt cx="1238400" cy="1238040"/>
          </a:xfrm>
        </p:grpSpPr>
        <p:sp>
          <p:nvSpPr>
            <p:cNvPr id="273" name=""/>
            <p:cNvSpPr/>
            <p:nvPr/>
          </p:nvSpPr>
          <p:spPr>
            <a:xfrm>
              <a:off x="3809880" y="932040"/>
              <a:ext cx="1238400" cy="37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9880" y="179532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49840" y="1136520"/>
              <a:ext cx="118260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rid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ask (B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7520" y="113184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3600" y="1144440"/>
              <a:ext cx="0" cy="838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92440" y="2568600"/>
            <a:ext cx="5292720" cy="2516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2880" y="2774880"/>
            <a:ext cx="48751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8120" indent="-1681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ch Bridge Task (BT) has dimensions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that define the skills and concepts being evalu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each dimension are some number of instances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of text describing tasks for that dimens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bridge task consists of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o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randomly selected instance from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eac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dimension for that bridge tas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5040" y="5373720"/>
            <a:ext cx="911160" cy="851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4400" y="5384880"/>
            <a:ext cx="901800" cy="199800"/>
          </a:xfrm>
          <a:prstGeom prst="rect">
            <a:avLst/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69360" y="53290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68560" y="5591160"/>
            <a:ext cx="92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58920" y="557388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91960" y="57355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91960" y="588816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91960" y="604044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68560" y="576252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8280" y="592452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8280" y="608652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3520" y="5373720"/>
            <a:ext cx="911160" cy="851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52880" y="5384880"/>
            <a:ext cx="901800" cy="199800"/>
          </a:xfrm>
          <a:prstGeom prst="rect">
            <a:avLst/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37840" y="53290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7040" y="5591160"/>
            <a:ext cx="92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27040" y="557388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60440" y="57355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60440" y="588816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60440" y="604044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7040" y="576252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46400" y="5924520"/>
            <a:ext cx="90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6400" y="6086520"/>
            <a:ext cx="90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095800" y="5329080"/>
            <a:ext cx="924120" cy="956160"/>
            <a:chOff x="5095800" y="5329080"/>
            <a:chExt cx="924120" cy="956160"/>
          </a:xfrm>
        </p:grpSpPr>
        <p:sp>
          <p:nvSpPr>
            <p:cNvPr id="303" name=""/>
            <p:cNvSpPr/>
            <p:nvPr/>
          </p:nvSpPr>
          <p:spPr>
            <a:xfrm>
              <a:off x="5102280" y="537372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11640" y="5384880"/>
              <a:ext cx="901800" cy="19980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96600" y="5329080"/>
              <a:ext cx="77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5800" y="5591160"/>
              <a:ext cx="92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6160" y="557388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19200" y="573552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19200" y="588816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19200" y="604044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95800" y="57625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5520" y="59245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5520" y="60865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79600" y="5108400"/>
            <a:ext cx="312840" cy="26064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8080" y="5119560"/>
            <a:ext cx="312840" cy="24948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98920" y="5113440"/>
            <a:ext cx="312840" cy="26028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89400" y="2198520"/>
            <a:ext cx="312840" cy="370080"/>
          </a:xfrm>
          <a:prstGeom prst="upArrow">
            <a:avLst>
              <a:gd name="adj1" fmla="val 50000"/>
              <a:gd name="adj2" fmla="val 59143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7680" y="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reating Assess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7391160" y="6095880"/>
            <a:ext cx="381240" cy="8380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459">
                <a:moveTo>
                  <a:pt x="0" y="0"/>
                </a:moveTo>
                <a:lnTo>
                  <a:pt x="21600" y="0"/>
                </a:lnTo>
                <a:lnTo>
                  <a:pt x="21600" y="47459"/>
                </a:lnTo>
                <a:lnTo>
                  <a:pt x="0" y="47459"/>
                </a:lnTo>
                <a:close/>
              </a:path>
              <a:path fill="lightenLess" w="21600" h="474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59">
                <a:moveTo>
                  <a:pt x="21600" y="0"/>
                </a:moveTo>
                <a:lnTo>
                  <a:pt x="21600" y="47459"/>
                </a:lnTo>
                <a:lnTo>
                  <a:pt x="20200" y="46059"/>
                </a:lnTo>
                <a:lnTo>
                  <a:pt x="20200" y="1400"/>
                </a:lnTo>
                <a:close/>
              </a:path>
              <a:path fill="darkenLess" w="21600" h="47459">
                <a:moveTo>
                  <a:pt x="21600" y="47459"/>
                </a:moveTo>
                <a:lnTo>
                  <a:pt x="0" y="47459"/>
                </a:lnTo>
                <a:lnTo>
                  <a:pt x="1400" y="46059"/>
                </a:lnTo>
                <a:lnTo>
                  <a:pt x="20200" y="46059"/>
                </a:lnTo>
                <a:close/>
              </a:path>
              <a:path fill="lighten" w="21600" h="47459">
                <a:moveTo>
                  <a:pt x="0" y="47459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59"/>
                </a:lnTo>
                <a:close/>
              </a:path>
              <a:path fill="darken" w="21600" h="47459">
                <a:moveTo>
                  <a:pt x="3794" y="16723"/>
                </a:moveTo>
                <a:lnTo>
                  <a:pt x="17806" y="23729"/>
                </a:lnTo>
                <a:lnTo>
                  <a:pt x="3794" y="3073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3821040" y="2166840"/>
            <a:ext cx="1238400" cy="1238400"/>
            <a:chOff x="3821040" y="2166840"/>
            <a:chExt cx="1238400" cy="1238400"/>
          </a:xfrm>
        </p:grpSpPr>
        <p:sp>
          <p:nvSpPr>
            <p:cNvPr id="321" name=""/>
            <p:cNvSpPr/>
            <p:nvPr/>
          </p:nvSpPr>
          <p:spPr>
            <a:xfrm>
              <a:off x="3821040" y="216684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1040" y="303048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60640" y="2371680"/>
              <a:ext cx="118296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rid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ask (B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38680" y="236700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54760" y="2379600"/>
              <a:ext cx="0" cy="838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413080" y="3875040"/>
            <a:ext cx="923760" cy="956160"/>
            <a:chOff x="2413080" y="3875040"/>
            <a:chExt cx="923760" cy="956160"/>
          </a:xfrm>
        </p:grpSpPr>
        <p:sp>
          <p:nvSpPr>
            <p:cNvPr id="327" name=""/>
            <p:cNvSpPr/>
            <p:nvPr/>
          </p:nvSpPr>
          <p:spPr>
            <a:xfrm>
              <a:off x="2419200" y="3919680"/>
              <a:ext cx="911520" cy="850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28920" y="3930480"/>
              <a:ext cx="901800" cy="20016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13880" y="387504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3080" y="413712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03080" y="411948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6480" y="428148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6480" y="443376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6480" y="458640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13080" y="4308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2440" y="4470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22440" y="4632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56040" y="3875040"/>
            <a:ext cx="923760" cy="956160"/>
            <a:chOff x="3956040" y="3875040"/>
            <a:chExt cx="923760" cy="956160"/>
          </a:xfrm>
        </p:grpSpPr>
        <p:sp>
          <p:nvSpPr>
            <p:cNvPr id="339" name=""/>
            <p:cNvSpPr/>
            <p:nvPr/>
          </p:nvSpPr>
          <p:spPr>
            <a:xfrm>
              <a:off x="3962520" y="3919680"/>
              <a:ext cx="911160" cy="850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71880" y="3930480"/>
              <a:ext cx="901800" cy="20016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56840" y="387504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56040" y="413712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46040" y="411948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79440" y="428148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79440" y="443376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79440" y="458640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56040" y="4308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5400" y="4470480"/>
              <a:ext cx="9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632480"/>
              <a:ext cx="9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10160" y="3876840"/>
            <a:ext cx="924120" cy="955800"/>
            <a:chOff x="5510160" y="3876840"/>
            <a:chExt cx="924120" cy="955800"/>
          </a:xfrm>
        </p:grpSpPr>
        <p:sp>
          <p:nvSpPr>
            <p:cNvPr id="351" name=""/>
            <p:cNvSpPr/>
            <p:nvPr/>
          </p:nvSpPr>
          <p:spPr>
            <a:xfrm>
              <a:off x="5516640" y="392112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26000" y="3932280"/>
              <a:ext cx="901800" cy="20016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10960" y="3876840"/>
              <a:ext cx="77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10160" y="4138560"/>
              <a:ext cx="92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00520" y="412128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3560" y="428292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33560" y="443556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33560" y="458784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10160" y="43099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19880" y="44719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9880" y="46339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724040" y="5005440"/>
            <a:ext cx="923760" cy="1279800"/>
            <a:chOff x="1724040" y="5005440"/>
            <a:chExt cx="923760" cy="1279800"/>
          </a:xfrm>
        </p:grpSpPr>
        <p:sp>
          <p:nvSpPr>
            <p:cNvPr id="363" name=""/>
            <p:cNvSpPr/>
            <p:nvPr/>
          </p:nvSpPr>
          <p:spPr>
            <a:xfrm>
              <a:off x="1730520" y="537372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39880" y="5005440"/>
              <a:ext cx="901800" cy="57924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51040" y="5087880"/>
              <a:ext cx="84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Dim 1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24040" y="559116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14040" y="5573880"/>
              <a:ext cx="63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47440" y="573552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47440" y="588816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47440" y="60404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24040" y="576252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33400" y="5924520"/>
              <a:ext cx="9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3400" y="6086520"/>
              <a:ext cx="9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V="1">
            <a:off x="2187720" y="4248000"/>
            <a:ext cx="0" cy="75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82680" y="423720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175920" y="4995720"/>
            <a:ext cx="979200" cy="1280160"/>
            <a:chOff x="3175920" y="4995720"/>
            <a:chExt cx="979200" cy="1280160"/>
          </a:xfrm>
        </p:grpSpPr>
        <p:sp>
          <p:nvSpPr>
            <p:cNvPr id="377" name=""/>
            <p:cNvSpPr/>
            <p:nvPr/>
          </p:nvSpPr>
          <p:spPr>
            <a:xfrm>
              <a:off x="3220920" y="5364000"/>
              <a:ext cx="91152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30640" y="4995720"/>
              <a:ext cx="901800" cy="57960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75920" y="5078520"/>
              <a:ext cx="979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Dim 2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14800" y="558180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04800" y="5564160"/>
              <a:ext cx="63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38200" y="572616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38200" y="58784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38200" y="603108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14800" y="575316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24160" y="591516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24160" y="60768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731840" y="4986360"/>
            <a:ext cx="988200" cy="1279800"/>
            <a:chOff x="4731840" y="4986360"/>
            <a:chExt cx="988200" cy="1279800"/>
          </a:xfrm>
        </p:grpSpPr>
        <p:sp>
          <p:nvSpPr>
            <p:cNvPr id="389" name=""/>
            <p:cNvSpPr/>
            <p:nvPr/>
          </p:nvSpPr>
          <p:spPr>
            <a:xfrm>
              <a:off x="4781520" y="535464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91240" y="4986360"/>
              <a:ext cx="901440" cy="57924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31840" y="5068800"/>
              <a:ext cx="988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Dim M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75040" y="5572080"/>
              <a:ext cx="92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65400" y="5554800"/>
              <a:ext cx="63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98800" y="57164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98800" y="586908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98800" y="602136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75040" y="5743440"/>
              <a:ext cx="903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590544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84760" y="606744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3660840" y="453672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60840" y="453708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29360" y="4687560"/>
            <a:ext cx="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41960" y="4699080"/>
            <a:ext cx="264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874960" y="3393720"/>
            <a:ext cx="1015920" cy="507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398840" y="3452400"/>
            <a:ext cx="0" cy="460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976640" y="3382920"/>
            <a:ext cx="981360" cy="519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92720" y="1139760"/>
            <a:ext cx="1859760" cy="57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udent Evaluatio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F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33760" y="174312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82640" y="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valuation Cri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7391160" y="6095880"/>
            <a:ext cx="381240" cy="8380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459">
                <a:moveTo>
                  <a:pt x="0" y="0"/>
                </a:moveTo>
                <a:lnTo>
                  <a:pt x="21600" y="0"/>
                </a:lnTo>
                <a:lnTo>
                  <a:pt x="21600" y="47459"/>
                </a:lnTo>
                <a:lnTo>
                  <a:pt x="0" y="47459"/>
                </a:lnTo>
                <a:close/>
              </a:path>
              <a:path fill="lightenLess" w="21600" h="474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59">
                <a:moveTo>
                  <a:pt x="21600" y="0"/>
                </a:moveTo>
                <a:lnTo>
                  <a:pt x="21600" y="47459"/>
                </a:lnTo>
                <a:lnTo>
                  <a:pt x="20200" y="46059"/>
                </a:lnTo>
                <a:lnTo>
                  <a:pt x="20200" y="1400"/>
                </a:lnTo>
                <a:close/>
              </a:path>
              <a:path fill="darkenLess" w="21600" h="47459">
                <a:moveTo>
                  <a:pt x="21600" y="47459"/>
                </a:moveTo>
                <a:lnTo>
                  <a:pt x="0" y="47459"/>
                </a:lnTo>
                <a:lnTo>
                  <a:pt x="1400" y="46059"/>
                </a:lnTo>
                <a:lnTo>
                  <a:pt x="20200" y="46059"/>
                </a:lnTo>
                <a:close/>
              </a:path>
              <a:path fill="lighten" w="21600" h="47459">
                <a:moveTo>
                  <a:pt x="0" y="47459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59"/>
                </a:lnTo>
                <a:close/>
              </a:path>
              <a:path fill="darken" w="21600" h="47459">
                <a:moveTo>
                  <a:pt x="3794" y="16723"/>
                </a:moveTo>
                <a:lnTo>
                  <a:pt x="17806" y="23729"/>
                </a:lnTo>
                <a:lnTo>
                  <a:pt x="3794" y="3073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Instructional Principles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pts and principles promote transfer within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ecessary for solving new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drives instruction” (Yel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rite the final exam firs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focus from wha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u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wha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ar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udent-cen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ive evaluation improves student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udy – test – restudy – ret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ance assessments evaluate mastery of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igh inter-rater reliability crit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tery-model learning ensures objectives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440" indent="-3769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students ca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 not what they ca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s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ridge Task Detail Drilldown 2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04000" y="2406600"/>
            <a:ext cx="1033560" cy="681120"/>
          </a:xfrm>
          <a:prstGeom prst="downArrow">
            <a:avLst>
              <a:gd name="adj1" fmla="val 75009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324320" y="1154160"/>
            <a:ext cx="1077840" cy="790560"/>
            <a:chOff x="4324320" y="1154160"/>
            <a:chExt cx="1077840" cy="790560"/>
          </a:xfrm>
        </p:grpSpPr>
        <p:sp>
          <p:nvSpPr>
            <p:cNvPr id="417" name=""/>
            <p:cNvSpPr/>
            <p:nvPr/>
          </p:nvSpPr>
          <p:spPr>
            <a:xfrm>
              <a:off x="4324320" y="1154160"/>
              <a:ext cx="1077840" cy="790560"/>
            </a:xfrm>
            <a:prstGeom prst="rect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08640" y="1228680"/>
              <a:ext cx="71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619280" y="981000"/>
            <a:ext cx="1333440" cy="123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61960" y="1087560"/>
            <a:ext cx="1650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udent Ent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ilot 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08160" y="1168560"/>
            <a:ext cx="1238400" cy="774720"/>
          </a:xfrm>
          <a:prstGeom prst="rightArrow">
            <a:avLst>
              <a:gd name="adj1" fmla="val 50000"/>
              <a:gd name="adj2" fmla="val 79933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43560" y="1155600"/>
            <a:ext cx="1154160" cy="812880"/>
          </a:xfrm>
          <a:prstGeom prst="rightArrow">
            <a:avLst>
              <a:gd name="adj1" fmla="val 50000"/>
              <a:gd name="adj2" fmla="val 7099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676920" y="1127160"/>
            <a:ext cx="1238400" cy="1238040"/>
            <a:chOff x="6676920" y="1127160"/>
            <a:chExt cx="1238400" cy="1238040"/>
          </a:xfrm>
        </p:grpSpPr>
        <p:sp>
          <p:nvSpPr>
            <p:cNvPr id="424" name=""/>
            <p:cNvSpPr/>
            <p:nvPr/>
          </p:nvSpPr>
          <p:spPr>
            <a:xfrm>
              <a:off x="6676920" y="112716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76920" y="1990800"/>
              <a:ext cx="1238400" cy="37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16880" y="1332000"/>
              <a:ext cx="118260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c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94560" y="132732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10640" y="133992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058200" y="1403280"/>
            <a:ext cx="95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s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1415880"/>
            <a:ext cx="114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07160" y="3119400"/>
            <a:ext cx="1238400" cy="1238400"/>
            <a:chOff x="6707160" y="3119400"/>
            <a:chExt cx="1238400" cy="1238400"/>
          </a:xfrm>
        </p:grpSpPr>
        <p:sp>
          <p:nvSpPr>
            <p:cNvPr id="432" name=""/>
            <p:cNvSpPr/>
            <p:nvPr/>
          </p:nvSpPr>
          <p:spPr>
            <a:xfrm>
              <a:off x="6707160" y="311940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7160" y="398304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6760" y="3324240"/>
              <a:ext cx="118296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rid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ask (B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24800" y="331956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40520" y="333216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944040" y="2465280"/>
            <a:ext cx="791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w B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57920" y="5892840"/>
            <a:ext cx="901800" cy="1396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48200" y="5486400"/>
            <a:ext cx="911520" cy="851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57920" y="5497560"/>
            <a:ext cx="901800" cy="199800"/>
          </a:xfrm>
          <a:prstGeom prst="rect">
            <a:avLst/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42880" y="544212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42080" y="5703840"/>
            <a:ext cx="92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32080" y="568656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5480" y="584820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65480" y="600084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5480" y="61531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tance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42080" y="58752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51440" y="60372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51440" y="61992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24600" y="6208560"/>
            <a:ext cx="901800" cy="1396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81920" y="5719680"/>
            <a:ext cx="901800" cy="1396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910560" y="5442120"/>
            <a:ext cx="923760" cy="955800"/>
            <a:chOff x="6910560" y="5442120"/>
            <a:chExt cx="923760" cy="955800"/>
          </a:xfrm>
        </p:grpSpPr>
        <p:sp>
          <p:nvSpPr>
            <p:cNvPr id="453" name=""/>
            <p:cNvSpPr/>
            <p:nvPr/>
          </p:nvSpPr>
          <p:spPr>
            <a:xfrm>
              <a:off x="6916680" y="548640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26400" y="5497560"/>
              <a:ext cx="901440" cy="19980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11000" y="544212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10560" y="570384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00560" y="568656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3600" y="584820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33600" y="600084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33600" y="615312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10560" y="5875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19920" y="6037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19920" y="6199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969320" y="5442120"/>
            <a:ext cx="923760" cy="955800"/>
            <a:chOff x="7969320" y="5442120"/>
            <a:chExt cx="923760" cy="955800"/>
          </a:xfrm>
        </p:grpSpPr>
        <p:sp>
          <p:nvSpPr>
            <p:cNvPr id="465" name=""/>
            <p:cNvSpPr/>
            <p:nvPr/>
          </p:nvSpPr>
          <p:spPr>
            <a:xfrm>
              <a:off x="7975440" y="5486400"/>
              <a:ext cx="91152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85160" y="5497560"/>
              <a:ext cx="901800" cy="19980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70120" y="5442120"/>
              <a:ext cx="77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69320" y="570384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59320" y="5686560"/>
              <a:ext cx="675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92720" y="584820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92720" y="600084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92720" y="6153120"/>
              <a:ext cx="82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stance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69320" y="5875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78680" y="6037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78680" y="619920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840280" y="4680000"/>
            <a:ext cx="3024360" cy="518760"/>
            <a:chOff x="5840280" y="4680000"/>
            <a:chExt cx="3024360" cy="518760"/>
          </a:xfrm>
        </p:grpSpPr>
        <p:sp>
          <p:nvSpPr>
            <p:cNvPr id="477" name=""/>
            <p:cNvSpPr/>
            <p:nvPr/>
          </p:nvSpPr>
          <p:spPr>
            <a:xfrm>
              <a:off x="5840280" y="4691160"/>
              <a:ext cx="3024360" cy="495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23440" y="4680000"/>
              <a:ext cx="2858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andomly select one instance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each of M dimensions for desired B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148440" y="5221440"/>
            <a:ext cx="312840" cy="26172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16920" y="5232240"/>
            <a:ext cx="312480" cy="25092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75680" y="5226120"/>
            <a:ext cx="312840" cy="25704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86680" y="4367160"/>
            <a:ext cx="312840" cy="316080"/>
          </a:xfrm>
          <a:prstGeom prst="upArrow">
            <a:avLst>
              <a:gd name="adj1" fmla="val 50000"/>
              <a:gd name="adj2" fmla="val 50513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913280" y="3187800"/>
            <a:ext cx="1262520" cy="1158120"/>
            <a:chOff x="4913280" y="3187800"/>
            <a:chExt cx="1262520" cy="1158120"/>
          </a:xfrm>
        </p:grpSpPr>
        <p:sp>
          <p:nvSpPr>
            <p:cNvPr id="484" name=""/>
            <p:cNvSpPr/>
            <p:nvPr/>
          </p:nvSpPr>
          <p:spPr>
            <a:xfrm>
              <a:off x="4913280" y="3187800"/>
              <a:ext cx="1262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ssemble T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m 1 (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m 2 (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m M (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25880" y="3187800"/>
              <a:ext cx="1236960" cy="1155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183360" y="3560760"/>
            <a:ext cx="500040" cy="322200"/>
          </a:xfrm>
          <a:prstGeom prst="leftArrow">
            <a:avLst>
              <a:gd name="adj1" fmla="val 50000"/>
              <a:gd name="adj2" fmla="val 7759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76640" y="3306600"/>
            <a:ext cx="1324080" cy="790560"/>
            <a:chOff x="3176640" y="3306600"/>
            <a:chExt cx="1324080" cy="790560"/>
          </a:xfrm>
        </p:grpSpPr>
        <p:sp>
          <p:nvSpPr>
            <p:cNvPr id="488" name=""/>
            <p:cNvSpPr/>
            <p:nvPr/>
          </p:nvSpPr>
          <p:spPr>
            <a:xfrm>
              <a:off x="3176640" y="3306600"/>
              <a:ext cx="1324080" cy="790560"/>
            </a:xfrm>
            <a:prstGeom prst="rect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3381480"/>
              <a:ext cx="713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eb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527720" y="3581280"/>
            <a:ext cx="396720" cy="322560"/>
          </a:xfrm>
          <a:prstGeom prst="leftArrow">
            <a:avLst>
              <a:gd name="adj1" fmla="val 50000"/>
              <a:gd name="adj2" fmla="val 6149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36640" y="3218040"/>
            <a:ext cx="1333440" cy="952200"/>
            <a:chOff x="836640" y="3218040"/>
            <a:chExt cx="1333440" cy="952200"/>
          </a:xfrm>
        </p:grpSpPr>
        <p:sp>
          <p:nvSpPr>
            <p:cNvPr id="492" name=""/>
            <p:cNvSpPr/>
            <p:nvPr/>
          </p:nvSpPr>
          <p:spPr>
            <a:xfrm>
              <a:off x="836640" y="3218040"/>
              <a:ext cx="1333440" cy="952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6360" y="3281400"/>
              <a:ext cx="1323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ndivid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T Web 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205000" y="3370320"/>
            <a:ext cx="951120" cy="679320"/>
          </a:xfrm>
          <a:prstGeom prst="leftArrow">
            <a:avLst>
              <a:gd name="adj1" fmla="val 50000"/>
              <a:gd name="adj2" fmla="val 6999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38560" y="359100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82640" y="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elivering Assess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 rot="16200000">
            <a:off x="4114800" y="5943600"/>
            <a:ext cx="380880" cy="8380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504">
                <a:moveTo>
                  <a:pt x="0" y="0"/>
                </a:moveTo>
                <a:lnTo>
                  <a:pt x="21600" y="0"/>
                </a:lnTo>
                <a:lnTo>
                  <a:pt x="21600" y="47504"/>
                </a:lnTo>
                <a:lnTo>
                  <a:pt x="0" y="47504"/>
                </a:lnTo>
                <a:close/>
              </a:path>
              <a:path fill="lightenLess" w="21600" h="475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504">
                <a:moveTo>
                  <a:pt x="21600" y="0"/>
                </a:moveTo>
                <a:lnTo>
                  <a:pt x="21600" y="47504"/>
                </a:lnTo>
                <a:lnTo>
                  <a:pt x="20200" y="46104"/>
                </a:lnTo>
                <a:lnTo>
                  <a:pt x="20200" y="1400"/>
                </a:lnTo>
                <a:close/>
              </a:path>
              <a:path fill="darkenLess" w="21600" h="47504">
                <a:moveTo>
                  <a:pt x="21600" y="47504"/>
                </a:moveTo>
                <a:lnTo>
                  <a:pt x="0" y="47504"/>
                </a:lnTo>
                <a:lnTo>
                  <a:pt x="1400" y="46104"/>
                </a:lnTo>
                <a:lnTo>
                  <a:pt x="20200" y="46104"/>
                </a:lnTo>
                <a:close/>
              </a:path>
              <a:path fill="lighten" w="21600" h="47504">
                <a:moveTo>
                  <a:pt x="0" y="475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6104"/>
                </a:lnTo>
                <a:close/>
              </a:path>
              <a:path fill="darken" w="21600" h="47504">
                <a:moveTo>
                  <a:pt x="3794" y="16745"/>
                </a:moveTo>
                <a:lnTo>
                  <a:pt x="17806" y="23752"/>
                </a:lnTo>
                <a:lnTo>
                  <a:pt x="3794" y="3075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 flipV="1" rot="16200000">
            <a:off x="4114800" y="5943600"/>
            <a:ext cx="380880" cy="8380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504">
                <a:moveTo>
                  <a:pt x="0" y="0"/>
                </a:moveTo>
                <a:lnTo>
                  <a:pt x="21600" y="0"/>
                </a:lnTo>
                <a:lnTo>
                  <a:pt x="21600" y="47504"/>
                </a:lnTo>
                <a:lnTo>
                  <a:pt x="0" y="47504"/>
                </a:lnTo>
                <a:close/>
              </a:path>
              <a:path fill="lightenLess" w="21600" h="475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504">
                <a:moveTo>
                  <a:pt x="21600" y="0"/>
                </a:moveTo>
                <a:lnTo>
                  <a:pt x="21600" y="47504"/>
                </a:lnTo>
                <a:lnTo>
                  <a:pt x="20200" y="46104"/>
                </a:lnTo>
                <a:lnTo>
                  <a:pt x="20200" y="1400"/>
                </a:lnTo>
                <a:close/>
              </a:path>
              <a:path fill="darkenLess" w="21600" h="47504">
                <a:moveTo>
                  <a:pt x="21600" y="47504"/>
                </a:moveTo>
                <a:lnTo>
                  <a:pt x="0" y="47504"/>
                </a:lnTo>
                <a:lnTo>
                  <a:pt x="1400" y="46104"/>
                </a:lnTo>
                <a:lnTo>
                  <a:pt x="20200" y="46104"/>
                </a:lnTo>
                <a:close/>
              </a:path>
              <a:path fill="lighten" w="21600" h="47504">
                <a:moveTo>
                  <a:pt x="0" y="475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6104"/>
                </a:lnTo>
                <a:close/>
              </a:path>
              <a:path fill="darken" w="21600" h="47504">
                <a:moveTo>
                  <a:pt x="3794" y="16745"/>
                </a:moveTo>
                <a:lnTo>
                  <a:pt x="17806" y="23752"/>
                </a:lnTo>
                <a:lnTo>
                  <a:pt x="3794" y="3075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04000" y="2406600"/>
            <a:ext cx="1033560" cy="822240"/>
          </a:xfrm>
          <a:prstGeom prst="downArrow">
            <a:avLst>
              <a:gd name="adj1" fmla="val 75009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676920" y="1127160"/>
            <a:ext cx="1238400" cy="1238040"/>
            <a:chOff x="6676920" y="1127160"/>
            <a:chExt cx="1238400" cy="1238040"/>
          </a:xfrm>
        </p:grpSpPr>
        <p:sp>
          <p:nvSpPr>
            <p:cNvPr id="501" name=""/>
            <p:cNvSpPr/>
            <p:nvPr/>
          </p:nvSpPr>
          <p:spPr>
            <a:xfrm>
              <a:off x="6676920" y="112716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76920" y="1990800"/>
              <a:ext cx="1238400" cy="37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16880" y="1332000"/>
              <a:ext cx="118260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c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94560" y="132732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10640" y="133992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608280" y="1144440"/>
            <a:ext cx="3011760" cy="812880"/>
            <a:chOff x="3608280" y="1144440"/>
            <a:chExt cx="3011760" cy="812880"/>
          </a:xfrm>
        </p:grpSpPr>
        <p:sp>
          <p:nvSpPr>
            <p:cNvPr id="507" name=""/>
            <p:cNvSpPr/>
            <p:nvPr/>
          </p:nvSpPr>
          <p:spPr>
            <a:xfrm>
              <a:off x="3741840" y="1208160"/>
              <a:ext cx="1333440" cy="642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08280" y="1225440"/>
              <a:ext cx="1650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rader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ueu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95800" y="1144440"/>
              <a:ext cx="1524240" cy="812880"/>
            </a:xfrm>
            <a:prstGeom prst="rightArrow">
              <a:avLst>
                <a:gd name="adj1" fmla="val 50000"/>
                <a:gd name="adj2" fmla="val 93764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5200" y="1405080"/>
              <a:ext cx="114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reate Que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707160" y="3274920"/>
            <a:ext cx="1238400" cy="1238400"/>
            <a:chOff x="6707160" y="3274920"/>
            <a:chExt cx="1238400" cy="1238400"/>
          </a:xfrm>
        </p:grpSpPr>
        <p:sp>
          <p:nvSpPr>
            <p:cNvPr id="512" name=""/>
            <p:cNvSpPr/>
            <p:nvPr/>
          </p:nvSpPr>
          <p:spPr>
            <a:xfrm>
              <a:off x="6707160" y="327492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07160" y="413856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46760" y="3479760"/>
              <a:ext cx="118296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rid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ask (B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24800" y="3475080"/>
              <a:ext cx="0" cy="82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40520" y="348768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941160" y="2465280"/>
            <a:ext cx="762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57920" y="6126120"/>
            <a:ext cx="901800" cy="1396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48200" y="5719680"/>
            <a:ext cx="911520" cy="851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57920" y="5730840"/>
            <a:ext cx="901800" cy="200160"/>
          </a:xfrm>
          <a:prstGeom prst="rect">
            <a:avLst/>
          </a:prstGeom>
          <a:solidFill>
            <a:srgbClr val="7500d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2880" y="567540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42080" y="5937120"/>
            <a:ext cx="92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32080" y="5919840"/>
            <a:ext cx="63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iteria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5480" y="608184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iteria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5480" y="62341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iteria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5480" y="638640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riteria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+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42080" y="610884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51440" y="62704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51440" y="64324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24600" y="6442200"/>
            <a:ext cx="901800" cy="1396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81920" y="5952960"/>
            <a:ext cx="901800" cy="14004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910560" y="5675400"/>
            <a:ext cx="923760" cy="955800"/>
            <a:chOff x="6910560" y="5675400"/>
            <a:chExt cx="923760" cy="955800"/>
          </a:xfrm>
        </p:grpSpPr>
        <p:sp>
          <p:nvSpPr>
            <p:cNvPr id="533" name=""/>
            <p:cNvSpPr/>
            <p:nvPr/>
          </p:nvSpPr>
          <p:spPr>
            <a:xfrm>
              <a:off x="6916680" y="5719680"/>
              <a:ext cx="91116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26400" y="5730840"/>
              <a:ext cx="901440" cy="20016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11000" y="567540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10560" y="593712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0560" y="5919840"/>
              <a:ext cx="63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33960" y="60818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33960" y="623412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3960" y="638640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10560" y="610884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19920" y="6270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19920" y="6432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969320" y="5675400"/>
            <a:ext cx="923760" cy="955800"/>
            <a:chOff x="7969320" y="5675400"/>
            <a:chExt cx="923760" cy="955800"/>
          </a:xfrm>
        </p:grpSpPr>
        <p:sp>
          <p:nvSpPr>
            <p:cNvPr id="545" name=""/>
            <p:cNvSpPr/>
            <p:nvPr/>
          </p:nvSpPr>
          <p:spPr>
            <a:xfrm>
              <a:off x="7975440" y="5719680"/>
              <a:ext cx="911520" cy="851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85160" y="5730840"/>
              <a:ext cx="901800" cy="200160"/>
            </a:xfrm>
            <a:prstGeom prst="rect">
              <a:avLst/>
            </a:prstGeom>
            <a:solidFill>
              <a:srgbClr val="7500d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70120" y="5675400"/>
              <a:ext cx="774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m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69320" y="5937120"/>
              <a:ext cx="923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59320" y="5919840"/>
              <a:ext cx="63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92720" y="60818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92720" y="623412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92720" y="638640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riteria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+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69320" y="610884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78680" y="6270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78680" y="6432480"/>
              <a:ext cx="90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840280" y="4913280"/>
            <a:ext cx="3024360" cy="518760"/>
            <a:chOff x="5840280" y="4913280"/>
            <a:chExt cx="3024360" cy="518760"/>
          </a:xfrm>
        </p:grpSpPr>
        <p:sp>
          <p:nvSpPr>
            <p:cNvPr id="557" name=""/>
            <p:cNvSpPr/>
            <p:nvPr/>
          </p:nvSpPr>
          <p:spPr>
            <a:xfrm>
              <a:off x="5840280" y="4924440"/>
              <a:ext cx="3024360" cy="495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58360" y="4913280"/>
              <a:ext cx="280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vide criteria for instances used 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nstruct student’s B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6148440" y="5454720"/>
            <a:ext cx="312840" cy="26172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6920" y="5465880"/>
            <a:ext cx="312480" cy="25056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75680" y="5459400"/>
            <a:ext cx="312840" cy="264960"/>
          </a:xfrm>
          <a:prstGeom prst="upArrow">
            <a:avLst>
              <a:gd name="adj1" fmla="val 50000"/>
              <a:gd name="adj2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86680" y="4541760"/>
            <a:ext cx="312840" cy="374760"/>
          </a:xfrm>
          <a:prstGeom prst="upArrow">
            <a:avLst>
              <a:gd name="adj1" fmla="val 50000"/>
              <a:gd name="adj2" fmla="val 5989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757680" y="3406680"/>
            <a:ext cx="1333440" cy="952560"/>
            <a:chOff x="3757680" y="3406680"/>
            <a:chExt cx="1333440" cy="952560"/>
          </a:xfrm>
        </p:grpSpPr>
        <p:sp>
          <p:nvSpPr>
            <p:cNvPr id="564" name=""/>
            <p:cNvSpPr/>
            <p:nvPr/>
          </p:nvSpPr>
          <p:spPr>
            <a:xfrm>
              <a:off x="3757680" y="3406680"/>
              <a:ext cx="1333440" cy="952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98720" y="3470400"/>
              <a:ext cx="1262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ndivid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T Checkli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121360" y="3559320"/>
            <a:ext cx="1562040" cy="679320"/>
          </a:xfrm>
          <a:prstGeom prst="leftArrow">
            <a:avLst>
              <a:gd name="adj1" fmla="val 50000"/>
              <a:gd name="adj2" fmla="val 11496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2040" y="374976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tur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07960" y="3417840"/>
            <a:ext cx="2444760" cy="846360"/>
            <a:chOff x="507960" y="3417840"/>
            <a:chExt cx="2444760" cy="846360"/>
          </a:xfrm>
        </p:grpSpPr>
        <p:sp>
          <p:nvSpPr>
            <p:cNvPr id="569" name=""/>
            <p:cNvSpPr/>
            <p:nvPr/>
          </p:nvSpPr>
          <p:spPr>
            <a:xfrm>
              <a:off x="991440" y="3441600"/>
              <a:ext cx="155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rader evalua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ach crite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ASS or F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7960" y="3417840"/>
              <a:ext cx="2444760" cy="839880"/>
            </a:xfrm>
            <a:prstGeom prst="octagon">
              <a:avLst>
                <a:gd name="adj" fmla="val 29282"/>
              </a:avLst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950760" y="1100160"/>
            <a:ext cx="1654200" cy="849240"/>
            <a:chOff x="950760" y="1100160"/>
            <a:chExt cx="1654200" cy="849240"/>
          </a:xfrm>
        </p:grpSpPr>
        <p:sp>
          <p:nvSpPr>
            <p:cNvPr id="572" name=""/>
            <p:cNvSpPr/>
            <p:nvPr/>
          </p:nvSpPr>
          <p:spPr>
            <a:xfrm>
              <a:off x="995400" y="1100160"/>
              <a:ext cx="1565280" cy="84924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50760" y="1111320"/>
              <a:ext cx="1654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ridg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as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546280" y="1258920"/>
            <a:ext cx="1131840" cy="517320"/>
          </a:xfrm>
          <a:prstGeom prst="rightArrow">
            <a:avLst>
              <a:gd name="adj1" fmla="val 50000"/>
              <a:gd name="adj2" fmla="val 1094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52640" y="1994040"/>
            <a:ext cx="588600" cy="1428120"/>
            <a:chOff x="1052640" y="1994040"/>
            <a:chExt cx="588600" cy="1428120"/>
          </a:xfrm>
        </p:grpSpPr>
        <p:sp>
          <p:nvSpPr>
            <p:cNvPr id="576" name=""/>
            <p:cNvSpPr/>
            <p:nvPr/>
          </p:nvSpPr>
          <p:spPr>
            <a:xfrm>
              <a:off x="1052640" y="1994040"/>
              <a:ext cx="426960" cy="1400040"/>
            </a:xfrm>
            <a:prstGeom prst="upArrow">
              <a:avLst>
                <a:gd name="adj1" fmla="val 50000"/>
                <a:gd name="adj2" fmla="val 163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6200000">
              <a:off x="771480" y="2552400"/>
              <a:ext cx="1220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m 1 Crite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527120" y="1995480"/>
            <a:ext cx="590400" cy="1425240"/>
            <a:chOff x="1527120" y="1995480"/>
            <a:chExt cx="590400" cy="1425240"/>
          </a:xfrm>
        </p:grpSpPr>
        <p:sp>
          <p:nvSpPr>
            <p:cNvPr id="579" name=""/>
            <p:cNvSpPr/>
            <p:nvPr/>
          </p:nvSpPr>
          <p:spPr>
            <a:xfrm>
              <a:off x="1527120" y="1995480"/>
              <a:ext cx="426960" cy="1393920"/>
            </a:xfrm>
            <a:prstGeom prst="upArrow">
              <a:avLst>
                <a:gd name="adj1" fmla="val 50000"/>
                <a:gd name="adj2" fmla="val 163222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247760" y="2550960"/>
              <a:ext cx="1220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im 2 Crite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031840" y="1996920"/>
            <a:ext cx="427320" cy="1409760"/>
          </a:xfrm>
          <a:prstGeom prst="upArrow">
            <a:avLst>
              <a:gd name="adj1" fmla="val 50000"/>
              <a:gd name="adj2" fmla="val 16493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1563480" y="2590920"/>
            <a:ext cx="137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m M Crit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97360" y="3668760"/>
            <a:ext cx="752400" cy="403200"/>
          </a:xfrm>
          <a:prstGeom prst="leftArrow">
            <a:avLst>
              <a:gd name="adj1" fmla="val 50000"/>
              <a:gd name="adj2" fmla="val 932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123920" y="5295960"/>
            <a:ext cx="1238400" cy="1238040"/>
            <a:chOff x="1123920" y="5295960"/>
            <a:chExt cx="1238400" cy="1238040"/>
          </a:xfrm>
        </p:grpSpPr>
        <p:sp>
          <p:nvSpPr>
            <p:cNvPr id="585" name=""/>
            <p:cNvSpPr/>
            <p:nvPr/>
          </p:nvSpPr>
          <p:spPr>
            <a:xfrm>
              <a:off x="1123920" y="5295960"/>
              <a:ext cx="1238400" cy="3747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23920" y="6159600"/>
              <a:ext cx="1238400" cy="37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63520" y="5500800"/>
              <a:ext cx="1182960" cy="8226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ud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c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41560" y="5495760"/>
              <a:ext cx="0" cy="82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57280" y="5508720"/>
              <a:ext cx="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95280" y="4552920"/>
            <a:ext cx="3024360" cy="495360"/>
            <a:chOff x="395280" y="4552920"/>
            <a:chExt cx="3024360" cy="495360"/>
          </a:xfrm>
        </p:grpSpPr>
        <p:sp>
          <p:nvSpPr>
            <p:cNvPr id="591" name=""/>
            <p:cNvSpPr/>
            <p:nvPr/>
          </p:nvSpPr>
          <p:spPr>
            <a:xfrm>
              <a:off x="395280" y="4552920"/>
              <a:ext cx="3024360" cy="495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200" y="4648320"/>
              <a:ext cx="2881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cord PASS / FAIL for each crite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635120" y="4281480"/>
            <a:ext cx="241200" cy="249120"/>
          </a:xfrm>
          <a:prstGeom prst="downArrow">
            <a:avLst>
              <a:gd name="adj1" fmla="val 50000"/>
              <a:gd name="adj2" fmla="val 51646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03440" y="5051520"/>
            <a:ext cx="272880" cy="206280"/>
          </a:xfrm>
          <a:prstGeom prst="down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82640" y="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Evaluating Assess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16200000">
            <a:off x="4114800" y="5943600"/>
            <a:ext cx="380880" cy="8380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504">
                <a:moveTo>
                  <a:pt x="0" y="0"/>
                </a:moveTo>
                <a:lnTo>
                  <a:pt x="21600" y="0"/>
                </a:lnTo>
                <a:lnTo>
                  <a:pt x="21600" y="47504"/>
                </a:lnTo>
                <a:lnTo>
                  <a:pt x="0" y="47504"/>
                </a:lnTo>
                <a:close/>
              </a:path>
              <a:path fill="lightenLess" w="21600" h="475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504">
                <a:moveTo>
                  <a:pt x="21600" y="0"/>
                </a:moveTo>
                <a:lnTo>
                  <a:pt x="21600" y="47504"/>
                </a:lnTo>
                <a:lnTo>
                  <a:pt x="20200" y="46104"/>
                </a:lnTo>
                <a:lnTo>
                  <a:pt x="20200" y="1400"/>
                </a:lnTo>
                <a:close/>
              </a:path>
              <a:path fill="darkenLess" w="21600" h="47504">
                <a:moveTo>
                  <a:pt x="21600" y="47504"/>
                </a:moveTo>
                <a:lnTo>
                  <a:pt x="0" y="47504"/>
                </a:lnTo>
                <a:lnTo>
                  <a:pt x="1400" y="46104"/>
                </a:lnTo>
                <a:lnTo>
                  <a:pt x="20200" y="46104"/>
                </a:lnTo>
                <a:close/>
              </a:path>
              <a:path fill="lighten" w="21600" h="47504">
                <a:moveTo>
                  <a:pt x="0" y="475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6104"/>
                </a:lnTo>
                <a:close/>
              </a:path>
              <a:path fill="darken" w="21600" h="47504">
                <a:moveTo>
                  <a:pt x="3794" y="16745"/>
                </a:moveTo>
                <a:lnTo>
                  <a:pt x="17806" y="23752"/>
                </a:lnTo>
                <a:lnTo>
                  <a:pt x="3794" y="3075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 flipV="1" rot="16200000">
            <a:off x="4114800" y="5943600"/>
            <a:ext cx="380880" cy="8380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838080"/>
              <a:gd name="textAreaBottom" fmla="*/ 813600 h 838080"/>
            </a:gdLst>
            <a:ahLst/>
            <a:rect l="textAreaLeft" t="textAreaTop" r="textAreaRight" b="textAreaBottom"/>
            <a:pathLst>
              <a:path w="21600" h="47504">
                <a:moveTo>
                  <a:pt x="0" y="0"/>
                </a:moveTo>
                <a:lnTo>
                  <a:pt x="21600" y="0"/>
                </a:lnTo>
                <a:lnTo>
                  <a:pt x="21600" y="47504"/>
                </a:lnTo>
                <a:lnTo>
                  <a:pt x="0" y="47504"/>
                </a:lnTo>
                <a:close/>
              </a:path>
              <a:path fill="lightenLess" w="21600" h="475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504">
                <a:moveTo>
                  <a:pt x="21600" y="0"/>
                </a:moveTo>
                <a:lnTo>
                  <a:pt x="21600" y="47504"/>
                </a:lnTo>
                <a:lnTo>
                  <a:pt x="20200" y="46104"/>
                </a:lnTo>
                <a:lnTo>
                  <a:pt x="20200" y="1400"/>
                </a:lnTo>
                <a:close/>
              </a:path>
              <a:path fill="darkenLess" w="21600" h="47504">
                <a:moveTo>
                  <a:pt x="21600" y="47504"/>
                </a:moveTo>
                <a:lnTo>
                  <a:pt x="0" y="47504"/>
                </a:lnTo>
                <a:lnTo>
                  <a:pt x="1400" y="46104"/>
                </a:lnTo>
                <a:lnTo>
                  <a:pt x="20200" y="46104"/>
                </a:lnTo>
                <a:close/>
              </a:path>
              <a:path fill="lighten" w="21600" h="47504">
                <a:moveTo>
                  <a:pt x="0" y="47504"/>
                </a:moveTo>
                <a:lnTo>
                  <a:pt x="0" y="0"/>
                </a:lnTo>
                <a:lnTo>
                  <a:pt x="1400" y="1400"/>
                </a:lnTo>
                <a:lnTo>
                  <a:pt x="1400" y="46104"/>
                </a:lnTo>
                <a:close/>
              </a:path>
              <a:path fill="darken" w="21600" h="47504">
                <a:moveTo>
                  <a:pt x="3794" y="16745"/>
                </a:moveTo>
                <a:lnTo>
                  <a:pt x="17806" y="23752"/>
                </a:lnTo>
                <a:lnTo>
                  <a:pt x="3794" y="30758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763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>
            <a:hlinkClick r:id="rId1" action="ppaction://hlinksldjump"/>
          </p:cNvPr>
          <p:cNvSpPr/>
          <p:nvPr/>
        </p:nvSpPr>
        <p:spPr>
          <a:xfrm>
            <a:off x="1905120" y="1523880"/>
            <a:ext cx="5638680" cy="431352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Times New Roman"/>
              </a:rPr>
              <a:t>Outc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Student final g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S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TA 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sight Committee: Associate D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Client department 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83818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Uses of Technology in Instructi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of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I / CB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ussion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-time c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edback and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iv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erative course development and impr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3429000"/>
            <a:ext cx="5668920" cy="33526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5000" y="3753000"/>
            <a:ext cx="2057400" cy="29718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187280"/>
            <a:ext cx="5668920" cy="19972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2011320" y="4648320"/>
            <a:ext cx="1463760" cy="11890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Incoming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932280" y="3780000"/>
            <a:ext cx="1461960" cy="118872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I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932280" y="5516640"/>
            <a:ext cx="1461960" cy="11890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64160" y="496872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5851440" y="4648320"/>
            <a:ext cx="1463760" cy="11890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Outc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2011320" y="1584360"/>
            <a:ext cx="1463760" cy="11872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Design Inp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3809880" y="1584360"/>
            <a:ext cx="1676520" cy="11872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Instructional Go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7" action="ppaction://hlinksldjump"/>
          </p:cNvPr>
          <p:cNvSpPr/>
          <p:nvPr/>
        </p:nvSpPr>
        <p:spPr>
          <a:xfrm>
            <a:off x="5715000" y="1584360"/>
            <a:ext cx="1676520" cy="1187280"/>
          </a:xfrm>
          <a:prstGeom prst="rect">
            <a:avLst/>
          </a:prstGeom>
          <a:solidFill>
            <a:srgbClr val="00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Instructional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771640"/>
            <a:ext cx="3565440" cy="274680"/>
          </a:xfrm>
          <a:custGeom>
            <a:avLst/>
            <a:gdLst/>
            <a:ahLst/>
            <a:rect l="l" t="t" r="r" b="b"/>
            <a:pathLst>
              <a:path w="5616" h="432">
                <a:moveTo>
                  <a:pt x="5616" y="0"/>
                </a:moveTo>
                <a:lnTo>
                  <a:pt x="5616" y="432"/>
                </a:lnTo>
                <a:lnTo>
                  <a:pt x="0" y="43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64160" y="2771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75080" y="217800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178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64160" y="2771640"/>
            <a:ext cx="1919160" cy="962280"/>
          </a:xfrm>
          <a:custGeom>
            <a:avLst/>
            <a:gdLst/>
            <a:ahLst/>
            <a:rect l="l" t="t" r="r" b="b"/>
            <a:pathLst>
              <a:path w="3024" h="2160">
                <a:moveTo>
                  <a:pt x="3024" y="0"/>
                </a:moveTo>
                <a:lnTo>
                  <a:pt x="3024" y="1152"/>
                </a:lnTo>
                <a:lnTo>
                  <a:pt x="0" y="1152"/>
                </a:lnTo>
                <a:lnTo>
                  <a:pt x="0" y="2160"/>
                </a:lnTo>
              </a:path>
            </a:pathLst>
          </a:custGeom>
          <a:noFill/>
          <a:ln w="442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49760" y="4327560"/>
            <a:ext cx="182520" cy="1828800"/>
          </a:xfrm>
          <a:custGeom>
            <a:avLst/>
            <a:gdLst/>
            <a:ahLst/>
            <a:rect l="l" t="t" r="r" b="b"/>
            <a:pathLst>
              <a:path w="288" h="2880">
                <a:moveTo>
                  <a:pt x="288" y="0"/>
                </a:moveTo>
                <a:lnTo>
                  <a:pt x="0" y="0"/>
                </a:lnTo>
                <a:lnTo>
                  <a:pt x="0" y="2880"/>
                </a:lnTo>
                <a:lnTo>
                  <a:pt x="288" y="28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93520" y="4327560"/>
            <a:ext cx="182520" cy="1828800"/>
          </a:xfrm>
          <a:custGeom>
            <a:avLst/>
            <a:gdLst/>
            <a:ahLst/>
            <a:rect l="l" t="t" r="r" b="b"/>
            <a:pathLst>
              <a:path w="288" h="2880">
                <a:moveTo>
                  <a:pt x="288" y="0"/>
                </a:moveTo>
                <a:lnTo>
                  <a:pt x="0" y="0"/>
                </a:lnTo>
                <a:lnTo>
                  <a:pt x="0" y="2880"/>
                </a:lnTo>
                <a:lnTo>
                  <a:pt x="288" y="28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5080" y="52419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6760" y="52419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4240" y="4089240"/>
            <a:ext cx="824040" cy="547920"/>
          </a:xfrm>
          <a:custGeom>
            <a:avLst/>
            <a:gdLst/>
            <a:ahLst/>
            <a:rect l="l" t="t" r="r" b="b"/>
            <a:pathLst>
              <a:path w="1296" h="864">
                <a:moveTo>
                  <a:pt x="1296" y="864"/>
                </a:moveTo>
                <a:lnTo>
                  <a:pt x="129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94240" y="5836680"/>
            <a:ext cx="824040" cy="549000"/>
          </a:xfrm>
          <a:custGeom>
            <a:avLst/>
            <a:gdLst/>
            <a:ahLst/>
            <a:rect l="l" t="t" r="r" b="b"/>
            <a:pathLst>
              <a:path w="1296" h="864">
                <a:moveTo>
                  <a:pt x="1296" y="864"/>
                </a:moveTo>
                <a:lnTo>
                  <a:pt x="129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0960" y="1127160"/>
            <a:ext cx="173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Design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429000"/>
            <a:ext cx="257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Implementation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urse Design &amp; Implem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iscriminant Analysi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variate statistical classification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 variable: final course g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oming studen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room / instructional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 performanc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student classified in group with highest prob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ate classification accur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 discriminant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 correlations with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ilar to interpreting loadings in Factor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787920" y="2952720"/>
            <a:ext cx="2376360" cy="2193840"/>
            <a:chOff x="3787920" y="2952720"/>
            <a:chExt cx="2376360" cy="2193840"/>
          </a:xfrm>
        </p:grpSpPr>
        <p:sp>
          <p:nvSpPr>
            <p:cNvPr id="149" name=""/>
            <p:cNvSpPr/>
            <p:nvPr/>
          </p:nvSpPr>
          <p:spPr>
            <a:xfrm>
              <a:off x="3787920" y="2952720"/>
              <a:ext cx="2376360" cy="2193840"/>
            </a:xfrm>
            <a:prstGeom prst="ellipse">
              <a:avLst/>
            </a:prstGeom>
            <a:solidFill>
              <a:srgbClr val="b4588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9160" y="4576680"/>
              <a:ext cx="2746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825640" y="3895920"/>
            <a:ext cx="3997800" cy="3350520"/>
            <a:chOff x="2825640" y="3895920"/>
            <a:chExt cx="3997800" cy="3350520"/>
          </a:xfrm>
        </p:grpSpPr>
        <p:sp>
          <p:nvSpPr>
            <p:cNvPr id="152" name=""/>
            <p:cNvSpPr/>
            <p:nvPr/>
          </p:nvSpPr>
          <p:spPr>
            <a:xfrm rot="1975200">
              <a:off x="2949480" y="4789080"/>
              <a:ext cx="3749760" cy="1563840"/>
            </a:xfrm>
            <a:prstGeom prst="ellipse">
              <a:avLst/>
            </a:prstGeom>
            <a:solidFill>
              <a:srgbClr val="12a8b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2040" y="650700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951200" y="2556000"/>
            <a:ext cx="2376360" cy="2469960"/>
            <a:chOff x="1951200" y="2556000"/>
            <a:chExt cx="2376360" cy="2469960"/>
          </a:xfrm>
        </p:grpSpPr>
        <p:sp>
          <p:nvSpPr>
            <p:cNvPr id="155" name=""/>
            <p:cNvSpPr/>
            <p:nvPr/>
          </p:nvSpPr>
          <p:spPr>
            <a:xfrm>
              <a:off x="1951200" y="2556000"/>
              <a:ext cx="2376360" cy="2469960"/>
            </a:xfrm>
            <a:prstGeom prst="ellipse">
              <a:avLst/>
            </a:prstGeom>
            <a:solidFill>
              <a:srgbClr val="6f9862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3120" y="409572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75280" y="2313000"/>
            <a:ext cx="2643120" cy="3932280"/>
            <a:chOff x="5075280" y="2313000"/>
            <a:chExt cx="2643120" cy="3932280"/>
          </a:xfrm>
        </p:grpSpPr>
        <p:sp>
          <p:nvSpPr>
            <p:cNvPr id="158" name=""/>
            <p:cNvSpPr/>
            <p:nvPr/>
          </p:nvSpPr>
          <p:spPr>
            <a:xfrm>
              <a:off x="5075280" y="2313000"/>
              <a:ext cx="2643120" cy="3932280"/>
            </a:xfrm>
            <a:prstGeom prst="ellipse">
              <a:avLst/>
            </a:prstGeom>
            <a:solidFill>
              <a:srgbClr val="40685e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62840" y="554364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23200" y="1116000"/>
            <a:ext cx="3301920" cy="3134160"/>
            <a:chOff x="2923200" y="1116000"/>
            <a:chExt cx="3301920" cy="3134160"/>
          </a:xfrm>
        </p:grpSpPr>
        <p:sp>
          <p:nvSpPr>
            <p:cNvPr id="161" name=""/>
            <p:cNvSpPr/>
            <p:nvPr/>
          </p:nvSpPr>
          <p:spPr>
            <a:xfrm rot="1660800">
              <a:off x="3282480" y="1590840"/>
              <a:ext cx="2583000" cy="2184120"/>
            </a:xfrm>
            <a:prstGeom prst="ellipse">
              <a:avLst/>
            </a:prstGeom>
            <a:solidFill>
              <a:srgbClr val="a5640d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92680" y="1687680"/>
              <a:ext cx="274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77360" y="3258000"/>
            <a:ext cx="2171880" cy="3104640"/>
            <a:chOff x="3177360" y="3258000"/>
            <a:chExt cx="2171880" cy="3104640"/>
          </a:xfrm>
        </p:grpSpPr>
        <p:sp>
          <p:nvSpPr>
            <p:cNvPr id="164" name=""/>
            <p:cNvSpPr/>
            <p:nvPr/>
          </p:nvSpPr>
          <p:spPr>
            <a:xfrm rot="1166400">
              <a:off x="3611160" y="3394080"/>
              <a:ext cx="1303560" cy="2832120"/>
            </a:xfrm>
            <a:prstGeom prst="ellipse">
              <a:avLst/>
            </a:prstGeom>
            <a:solidFill>
              <a:srgbClr val="ede80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95760" y="5942160"/>
              <a:ext cx="274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137200" y="3692520"/>
            <a:ext cx="1098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otno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ify sty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eb form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ivate fold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35560" y="2952720"/>
            <a:ext cx="109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w 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r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3520" y="31431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56160" y="5533920"/>
            <a:ext cx="898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nd 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4937040"/>
            <a:ext cx="109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8080" y="4568760"/>
            <a:ext cx="109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R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3486240"/>
            <a:ext cx="109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ubli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ld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75000" y="2846520"/>
            <a:ext cx="109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52480" y="4324320"/>
            <a:ext cx="2057400" cy="2179800"/>
            <a:chOff x="1752480" y="4324320"/>
            <a:chExt cx="2057400" cy="2179800"/>
          </a:xfrm>
        </p:grpSpPr>
        <p:sp>
          <p:nvSpPr>
            <p:cNvPr id="175" name=""/>
            <p:cNvSpPr/>
            <p:nvPr/>
          </p:nvSpPr>
          <p:spPr>
            <a:xfrm>
              <a:off x="1752480" y="5772240"/>
              <a:ext cx="1281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oolean searc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971800" y="4324320"/>
              <a:ext cx="83808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kill to Schema Map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81440" y="3708360"/>
            <a:ext cx="7081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eb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46520" y="5097600"/>
            <a:ext cx="109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nd rename  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51240" y="4140360"/>
            <a:ext cx="914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puter spec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IRS: Course, TA, 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semester student survey about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e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rnes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nt preparation and particip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rse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RS for Lead 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RS for Assistant 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00:51:38Z</dcterms:created>
  <dc:creator>Mark Urban-Lurain &amp; Don Weinshank</dc:creator>
  <dc:description/>
  <cp:keywords>Instructional design; technology; CS0</cp:keywords>
  <dc:language>en-US</dc:language>
  <cp:lastModifiedBy>Mark Urban-Lurain</cp:lastModifiedBy>
  <cp:lastPrinted>2000-02-11T17:43:48Z</cp:lastPrinted>
  <dcterms:modified xsi:type="dcterms:W3CDTF">2000-10-26T17:06:35Z</dcterms:modified>
  <cp:revision>306</cp:revision>
  <dc:subject/>
  <dc:title>The Role of Feedback in Instructional Design and Student Assessment</dc:title>
</cp:coreProperties>
</file>